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B174-7020-4D67-8988-B85379E7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B9F-71EF-47E4-8D69-91AD8E9E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D931-3DFD-4AF4-B87A-38692959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FBE3-2773-41EF-B6D4-5179B4F4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6B1B-AF98-4DB8-8584-85BAA4896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E777-BD73-4E24-884E-3153C4F6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270E-0EBF-4145-A2F0-E04F40C5D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8A86-CCCC-4B01-8352-826F8E37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68E-0FE8-45E1-9515-5771FAB2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84C-ECA8-4BC6-B8B6-002882C40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F805-ACA4-4AF2-B25D-B0A5C331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580-FF2A-49DF-855E-FBFD600D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99F-920E-412E-A0B7-EC992309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12A1-76FC-44E7-913D-8D3F9A54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CA23-49D1-43FD-9F8A-46D7F975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D65-5222-4126-A9A6-DC0E6D92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A47-3960-4678-BAC6-9767FA274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C87-5982-4246-AC3F-848F3CCC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24AB-45D9-43E4-8EF8-76887411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8BA-DF4A-45E5-A7B2-3520D8CA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C10A-9161-4596-87DC-774D5BCA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D825-78E3-4CA5-80EB-D3BBE2D2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18FF-1C82-418E-AABC-50EF5E0A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6A5-145B-4ABC-8C2F-4BAFC28A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2600"/>
            <a:ext cx="6843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42000"/>
            <a:ext cx="3505320" cy="227160"/>
          </a:xfrm>
          <a:prstGeom prst="rect">
            <a:avLst/>
          </a:prstGeom>
          <a:gradFill rotWithShape="0">
            <a:gsLst>
              <a:gs pos="0">
                <a:srgbClr val="760018"/>
              </a:gs>
              <a:gs pos="50000">
                <a:srgbClr val="ff0033"/>
              </a:gs>
              <a:gs pos="100000">
                <a:srgbClr val="7600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2520"/>
            <a:ext cx="914400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80880" y="0"/>
            <a:ext cx="1447920" cy="68691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8920" y="1447920"/>
            <a:ext cx="878508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ve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838080" y="1701720"/>
            <a:ext cx="1828800" cy="736560"/>
          </a:xfrm>
          <a:prstGeom prst="cloudCallout">
            <a:avLst>
              <a:gd name="adj1" fmla="val 15800"/>
              <a:gd name="adj2" fmla="val 32111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01800" y="4724280"/>
            <a:ext cx="1396800" cy="63144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86868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++, J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826920" y="5918040"/>
            <a:ext cx="1522440" cy="520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86868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443640" y="2781360"/>
            <a:ext cx="1523880" cy="7509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1576440" y="5380200"/>
            <a:ext cx="7920" cy="5331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1584360" y="2492280"/>
            <a:ext cx="0" cy="2225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3492360" y="1736640"/>
            <a:ext cx="1828800" cy="736560"/>
          </a:xfrm>
          <a:prstGeom prst="cloudCallout">
            <a:avLst>
              <a:gd name="adj1" fmla="val 31856"/>
              <a:gd name="adj2" fmla="val 3965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6443640" y="1736640"/>
            <a:ext cx="1828800" cy="736560"/>
          </a:xfrm>
          <a:prstGeom prst="cloudCallout">
            <a:avLst>
              <a:gd name="adj1" fmla="val 18490"/>
              <a:gd name="adj2" fmla="val 36421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28720" y="5516640"/>
            <a:ext cx="8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570120" y="4761000"/>
            <a:ext cx="1397160" cy="63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++, J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0"/>
          <p:cNvSpPr/>
          <p:nvPr/>
        </p:nvSpPr>
        <p:spPr>
          <a:xfrm flipH="1">
            <a:off x="4276800" y="5416560"/>
            <a:ext cx="792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246560" y="5518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4"/>
          <p:cNvSpPr/>
          <p:nvPr/>
        </p:nvSpPr>
        <p:spPr>
          <a:xfrm flipH="1">
            <a:off x="7155000" y="5416560"/>
            <a:ext cx="792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7307280" y="5518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6480000" y="4761000"/>
            <a:ext cx="1397160" cy="63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++, J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600360" y="3573360"/>
            <a:ext cx="1397160" cy="631440"/>
          </a:xfrm>
          <a:prstGeom prst="rect">
            <a:avLst/>
          </a:prstGeom>
          <a:gradFill rotWithShape="0">
            <a:gsLst>
              <a:gs pos="0">
                <a:srgbClr val="bbbbbb"/>
              </a:gs>
              <a:gs pos="100000">
                <a:srgbClr val="86868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4284720" y="2421000"/>
            <a:ext cx="0" cy="1152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4284720" y="4184640"/>
            <a:ext cx="0" cy="606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3517920" y="5950080"/>
            <a:ext cx="1522440" cy="520200"/>
          </a:xfrm>
          <a:prstGeom prst="rect">
            <a:avLst/>
          </a:prstGeom>
          <a:gradFill rotWithShape="0">
            <a:gsLst>
              <a:gs pos="0">
                <a:srgbClr val="b7b7b7"/>
              </a:gs>
              <a:gs pos="100000">
                <a:srgbClr val="86868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6372360" y="5985000"/>
            <a:ext cx="1522440" cy="520200"/>
          </a:xfrm>
          <a:prstGeom prst="rect">
            <a:avLst/>
          </a:prstGeom>
          <a:gradFill rotWithShape="0">
            <a:gsLst>
              <a:gs pos="0">
                <a:srgbClr val="bbbbbb"/>
              </a:gs>
              <a:gs pos="100000">
                <a:srgbClr val="86868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6488280" y="3789360"/>
            <a:ext cx="1396800" cy="631440"/>
          </a:xfrm>
          <a:prstGeom prst="rect">
            <a:avLst/>
          </a:prstGeom>
          <a:gradFill rotWithShape="0">
            <a:gsLst>
              <a:gs pos="0">
                <a:srgbClr val="c8c8c8"/>
              </a:gs>
              <a:gs pos="100000">
                <a:srgbClr val="86868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7236000" y="2457360"/>
            <a:ext cx="0" cy="324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7201080" y="3573360"/>
            <a:ext cx="0" cy="216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7164360" y="4437000"/>
            <a:ext cx="0" cy="324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1727280" y="2708280"/>
            <a:ext cx="82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ally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4356000" y="2744640"/>
            <a:ext cx="8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ally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8"/>
          <p:cNvSpPr/>
          <p:nvPr/>
        </p:nvSpPr>
        <p:spPr>
          <a:xfrm>
            <a:off x="8064360" y="2421000"/>
            <a:ext cx="8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ally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7993080" y="3465360"/>
            <a:ext cx="82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 with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of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2519280" y="3608280"/>
            <a:ext cx="2665440" cy="1189080"/>
          </a:xfrm>
          <a:prstGeom prst="rect">
            <a:avLst/>
          </a:prstGeom>
          <a:solidFill>
            <a:srgbClr val="cc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ines higher-level structure into lower level, preserving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of step-wise refinement and CASE or GUI bui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348000" y="3716280"/>
            <a:ext cx="93672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808360" y="4221000"/>
            <a:ext cx="93672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887640" y="4221000"/>
            <a:ext cx="93672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2519280" y="5300640"/>
            <a:ext cx="2665440" cy="1189080"/>
          </a:xfrm>
          <a:prstGeom prst="rect">
            <a:avLst/>
          </a:prstGeom>
          <a:solidFill>
            <a:srgbClr val="cc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3348000" y="5408640"/>
            <a:ext cx="936720" cy="431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2808360" y="5913360"/>
            <a:ext cx="93672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3887640" y="5913360"/>
            <a:ext cx="93672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3492360" y="5516640"/>
            <a:ext cx="216000" cy="18072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3851280" y="5516640"/>
            <a:ext cx="216000" cy="18072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951280" y="6165720"/>
            <a:ext cx="215640" cy="10800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3348000" y="6165720"/>
            <a:ext cx="216000" cy="10800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3132000" y="5985000"/>
            <a:ext cx="216000" cy="10800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3959280" y="6021360"/>
            <a:ext cx="216000" cy="10800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4464000" y="6021360"/>
            <a:ext cx="216000" cy="10800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4176720" y="6200640"/>
            <a:ext cx="216000" cy="10800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564000" y="4834080"/>
            <a:ext cx="395280" cy="43164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187280" y="3429000"/>
            <a:ext cx="2665440" cy="1189080"/>
          </a:xfrm>
          <a:prstGeom prst="rect">
            <a:avLst/>
          </a:prstGeom>
          <a:solidFill>
            <a:srgbClr val="cc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s modular structure at the sam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ges, deletes or modifies existing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016000" y="3537000"/>
            <a:ext cx="936720" cy="431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476360" y="4041720"/>
            <a:ext cx="93672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556000" y="4041720"/>
            <a:ext cx="93636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20"/>
          <p:cNvSpPr/>
          <p:nvPr/>
        </p:nvSpPr>
        <p:spPr>
          <a:xfrm rot="16200000">
            <a:off x="4177440" y="3896280"/>
            <a:ext cx="395280" cy="432000"/>
          </a:xfrm>
          <a:prstGeom prst="downArrow">
            <a:avLst>
              <a:gd name="adj1" fmla="val 50000"/>
              <a:gd name="adj2" fmla="val 27322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932360" y="3465360"/>
            <a:ext cx="2665440" cy="1189080"/>
          </a:xfrm>
          <a:prstGeom prst="rect">
            <a:avLst/>
          </a:prstGeom>
          <a:solidFill>
            <a:srgbClr val="cc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5761080" y="3573360"/>
            <a:ext cx="93672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5111640" y="4076640"/>
            <a:ext cx="2232000" cy="4320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6840360" y="3573360"/>
            <a:ext cx="432000" cy="397080"/>
          </a:xfrm>
          <a:prstGeom prst="rect">
            <a:avLst/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 of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transform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 to source transform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er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 of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 of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ret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er Optim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l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ant fol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ca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 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matrixes A+B+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number of iterations is sm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 invariant code outside of lo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er Optimization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ubexpression eli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-code eli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al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ly evaluate a function based on knowledge of some of its parameters to be constants in a special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te differen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= x +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= x + 2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x * 3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y + 6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x *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/dx =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x =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3 d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to sourc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iting transform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traction and general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ing new variant po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d Assembly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Espace réservé du contenu 6" descr=""/>
          <p:cNvPicPr/>
          <p:nvPr/>
        </p:nvPicPr>
        <p:blipFill>
          <a:blip r:embed="rId1"/>
          <a:stretch/>
        </p:blipFill>
        <p:spPr>
          <a:xfrm>
            <a:off x="1347840" y="1444680"/>
            <a:ext cx="76374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Metaprogramming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ction in C#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 Orient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time Code Generation in LIN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tional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BB75-5224-4451-9FB7-633AA9F318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-Orient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ransformation Techn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tional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Engine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ve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mprove the modularity of designs and implementations by allowing a better encapsulation of cross-cutting concer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chronization, distribution, authentication, data traversal, memory allocation, tracing, caching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kind of modularity called “aspec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cts represent an orthogonal parameterization concept compared to what's available in current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to A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es on capturing different subjective perspectives on a single object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allows composing applications out of "subjects" (partial object models) by means of declarative composi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d software development activities by providing mechanized support for manipulating program represen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ting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s of program re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ntional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tendible programming environment based on transformation technology and direct manipulation of active program re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gramming notations and transformations can be distributed and used as plug-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ystem replaces parsing technology with the direct entry and editing of resolved A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 engineering comprises the development of a common model and concrete components, generators, and reuse infrastructures for a family of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als of Generative Program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language implements its own libraries: types are hard to m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add(int i, int j) { return i+j;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(1, x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inc(int x) { return add(1, x);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Complex { double r, i;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add(Complex x, Complex y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Complex(x.r + y.r, x.i + y.i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inc(Complex x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add(Complex(1, 0), x);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can’t optimize, since it does not know the Complex ty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used to represent concepts in domain, but semantics of domain is not conveyed to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 A, B, C, D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= A.add(B.add(C)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allocation of temporary intermediate matrix and two lo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s not capable, DSL for algebra could incorporate, e.g. wr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.add(A, B, C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hangeable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space réservé du contenu 3" descr="New MacBook Components.jpg"/>
          <p:cNvPicPr/>
          <p:nvPr/>
        </p:nvPicPr>
        <p:blipFill>
          <a:blip r:embed="rId1"/>
          <a:srcRect l="0" t="-6810" r="0" b="-6810"/>
          <a:stretch/>
        </p:blipFill>
        <p:spPr>
          <a:xfrm>
            <a:off x="685800" y="1698480"/>
            <a:ext cx="77724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emplate metaprogramming one can produce specialized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ITZ matrix library: faster than Fortr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ster high complex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hieve high productivity and qual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effective maintenance and evolu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 situ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g more than a century in development behind manufactur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 more like cottage industry handcrafting one-of-a-kind solutions than engineer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ve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oftware engineering paradigm on modeling software system famil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blem space: requirements specif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lution space: customized and optimized produc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irect consequence of the “automation assumption”: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f you can compose components manually, you can also automate this proces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vs Gene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rogramming focuses on representing families of domain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ve Programming also includes the process of creating concrete instances of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739960" y="2370240"/>
            <a:ext cx="4143600" cy="32414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3354480" y="2744640"/>
            <a:ext cx="701640" cy="792360"/>
          </a:xfrm>
          <a:prstGeom prst="ellipse">
            <a:avLst/>
          </a:prstGeom>
          <a:gradFill rotWithShape="0">
            <a:gsLst>
              <a:gs pos="0">
                <a:srgbClr val="008100"/>
              </a:gs>
              <a:gs pos="100000">
                <a:srgbClr val="00af00"/>
              </a:gs>
            </a:gsLst>
            <a:lin ang="16200000"/>
          </a:gradFill>
          <a:ln w="9360">
            <a:solidFill>
              <a:srgbClr val="00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227480" y="1865160"/>
            <a:ext cx="17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3884400" y="2214720"/>
            <a:ext cx="446040" cy="6476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444920" y="2585880"/>
            <a:ext cx="2103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v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1305000" y="2637000"/>
            <a:ext cx="828720" cy="100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7862760" y="2697120"/>
            <a:ext cx="395280" cy="358920"/>
          </a:xfrm>
          <a:prstGeom prst="hexagon">
            <a:avLst>
              <a:gd name="adj" fmla="val 3110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 rot="1937400">
            <a:off x="7753320" y="2631960"/>
            <a:ext cx="19224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262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7618320" y="2706840"/>
            <a:ext cx="244440" cy="1746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7618320" y="2887560"/>
            <a:ext cx="24444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7377120" y="3021120"/>
            <a:ext cx="363600" cy="419040"/>
          </a:xfrm>
          <a:prstGeom prst="plus">
            <a:avLst>
              <a:gd name="adj" fmla="val 3565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39800" y="3984480"/>
            <a:ext cx="1868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in a configuration 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er 27"/>
          <p:cNvGrpSpPr/>
          <p:nvPr/>
        </p:nvGrpSpPr>
        <p:grpSpPr>
          <a:xfrm>
            <a:off x="3724200" y="3884760"/>
            <a:ext cx="2603520" cy="2509560"/>
            <a:chOff x="3724200" y="3884760"/>
            <a:chExt cx="2603520" cy="2509560"/>
          </a:xfrm>
        </p:grpSpPr>
        <p:sp>
          <p:nvSpPr>
            <p:cNvPr id="116" name="AutoShape 9"/>
            <p:cNvSpPr/>
            <p:nvPr/>
          </p:nvSpPr>
          <p:spPr>
            <a:xfrm>
              <a:off x="3724200" y="3884760"/>
              <a:ext cx="1976400" cy="1295280"/>
            </a:xfrm>
            <a:prstGeom prst="wedgeRoundRectCallout">
              <a:avLst>
                <a:gd name="adj1" fmla="val -39546"/>
                <a:gd name="adj2" fmla="val -89583"/>
                <a:gd name="adj3" fmla="val 16667"/>
              </a:avLst>
            </a:prstGeom>
            <a:gradFill rotWithShape="0">
              <a:gsLst>
                <a:gs pos="0">
                  <a:srgbClr val="a3eda3"/>
                </a:gs>
                <a:gs pos="100000">
                  <a:srgbClr val="e6fae6"/>
                </a:gs>
              </a:gsLst>
              <a:lin ang="16200000"/>
            </a:gradFill>
            <a:ln w="9360">
              <a:solidFill>
                <a:srgbClr val="00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8"/>
            <p:cNvSpPr/>
            <p:nvPr/>
          </p:nvSpPr>
          <p:spPr>
            <a:xfrm>
              <a:off x="4003560" y="4133880"/>
              <a:ext cx="395280" cy="358560"/>
            </a:xfrm>
            <a:prstGeom prst="hexagon">
              <a:avLst>
                <a:gd name="adj" fmla="val 31138"/>
                <a:gd name="vf" fmla="val 115470"/>
              </a:avLst>
            </a:prstGeom>
            <a:gradFill rotWithShape="0">
              <a:gsLst>
                <a:gs pos="0">
                  <a:srgbClr val="0c3ed4"/>
                </a:gs>
                <a:gs pos="100000">
                  <a:srgbClr val="0f52ff"/>
                </a:gs>
              </a:gsLst>
              <a:lin ang="16200000"/>
            </a:gradFill>
            <a:ln w="9360">
              <a:solidFill>
                <a:srgbClr val="2d61f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 rot="1937400">
              <a:off x="5132160" y="4241520"/>
              <a:ext cx="190440" cy="215640"/>
            </a:xfrm>
            <a:prstGeom prst="rect">
              <a:avLst/>
            </a:prstGeom>
            <a:gradFill rotWithShape="0">
              <a:gsLst>
                <a:gs pos="0">
                  <a:srgbClr val="0c3ed4"/>
                </a:gs>
                <a:gs pos="100000">
                  <a:srgbClr val="0f52ff"/>
                </a:gs>
              </a:gsLst>
              <a:lin ang="14262000"/>
            </a:gradFill>
            <a:ln w="9360">
              <a:solidFill>
                <a:srgbClr val="2d61f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4686120" y="4262400"/>
              <a:ext cx="244440" cy="176040"/>
            </a:xfrm>
            <a:prstGeom prst="rtTriangle">
              <a:avLst/>
            </a:prstGeom>
            <a:gradFill rotWithShape="0">
              <a:gsLst>
                <a:gs pos="0">
                  <a:srgbClr val="0c3ed4"/>
                </a:gs>
                <a:gs pos="100000">
                  <a:srgbClr val="0f52ff"/>
                </a:gs>
              </a:gsLst>
              <a:lin ang="16200000"/>
            </a:gradFill>
            <a:ln w="9360">
              <a:solidFill>
                <a:srgbClr val="2d61f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4200480" y="4691160"/>
              <a:ext cx="244440" cy="280800"/>
            </a:xfrm>
            <a:prstGeom prst="rect">
              <a:avLst/>
            </a:prstGeom>
            <a:gradFill rotWithShape="0">
              <a:gsLst>
                <a:gs pos="0">
                  <a:srgbClr val="0c3ed4"/>
                </a:gs>
                <a:gs pos="100000">
                  <a:srgbClr val="0f52ff"/>
                </a:gs>
              </a:gsLst>
              <a:lin ang="16200000"/>
            </a:gradFill>
            <a:ln w="9360">
              <a:solidFill>
                <a:srgbClr val="2d61f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22"/>
            <p:cNvSpPr/>
            <p:nvPr/>
          </p:nvSpPr>
          <p:spPr>
            <a:xfrm>
              <a:off x="4906800" y="4602240"/>
              <a:ext cx="363240" cy="419040"/>
            </a:xfrm>
            <a:prstGeom prst="plus">
              <a:avLst>
                <a:gd name="adj" fmla="val 35657"/>
              </a:avLst>
            </a:prstGeom>
            <a:gradFill rotWithShape="0">
              <a:gsLst>
                <a:gs pos="0">
                  <a:srgbClr val="0c3ed4"/>
                </a:gs>
                <a:gs pos="100000">
                  <a:srgbClr val="0f52ff"/>
                </a:gs>
              </a:gsLst>
              <a:lin ang="16200000"/>
            </a:gradFill>
            <a:ln w="9360">
              <a:solidFill>
                <a:srgbClr val="2d61f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4"/>
            <p:cNvSpPr/>
            <p:nvPr/>
          </p:nvSpPr>
          <p:spPr>
            <a:xfrm>
              <a:off x="4155840" y="5662440"/>
              <a:ext cx="2171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ementation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H="1" flipV="1">
              <a:off x="4541760" y="5020920"/>
              <a:ext cx="388800" cy="685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26"/>
          <p:cNvSpPr/>
          <p:nvPr/>
        </p:nvSpPr>
        <p:spPr>
          <a:xfrm>
            <a:off x="2131920" y="3002040"/>
            <a:ext cx="476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7013520" y="2925720"/>
            <a:ext cx="3636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6985080" y="3795840"/>
            <a:ext cx="190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at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Espace réservé du contenu 3" descr=""/>
          <p:cNvPicPr/>
          <p:nvPr/>
        </p:nvPicPr>
        <p:blipFill>
          <a:blip r:embed="rId1"/>
          <a:stretch/>
        </p:blipFill>
        <p:spPr>
          <a:xfrm>
            <a:off x="1096920" y="2901960"/>
            <a:ext cx="7589880" cy="78588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9"/>
          <p:cNvSpPr/>
          <p:nvPr/>
        </p:nvSpPr>
        <p:spPr>
          <a:xfrm>
            <a:off x="1150920" y="2149560"/>
            <a:ext cx="16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ZoneTexte 10"/>
          <p:cNvSpPr/>
          <p:nvPr/>
        </p:nvSpPr>
        <p:spPr>
          <a:xfrm>
            <a:off x="7031160" y="21495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Connecteur droit avec flèche 12"/>
          <p:cNvCxnSpPr/>
          <p:nvPr/>
        </p:nvCxnSpPr>
        <p:spPr>
          <a:xfrm>
            <a:off x="1150920" y="2758680"/>
            <a:ext cx="7500240" cy="252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  <p:grpSp>
        <p:nvGrpSpPr>
          <p:cNvPr id="132" name="Grouper 26"/>
          <p:cNvGrpSpPr/>
          <p:nvPr/>
        </p:nvGrpSpPr>
        <p:grpSpPr>
          <a:xfrm>
            <a:off x="7031160" y="3749760"/>
            <a:ext cx="1619280" cy="1062360"/>
            <a:chOff x="7031160" y="3749760"/>
            <a:chExt cx="1619280" cy="1062360"/>
          </a:xfrm>
        </p:grpSpPr>
        <p:sp>
          <p:nvSpPr>
            <p:cNvPr id="133" name="ZoneTexte 8"/>
            <p:cNvSpPr/>
            <p:nvPr/>
          </p:nvSpPr>
          <p:spPr>
            <a:xfrm>
              <a:off x="7031160" y="4108320"/>
              <a:ext cx="161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ent’s own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lèche vers le bas 14"/>
            <p:cNvSpPr/>
            <p:nvPr/>
          </p:nvSpPr>
          <p:spPr>
            <a:xfrm>
              <a:off x="7031160" y="3749760"/>
              <a:ext cx="380880" cy="35856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a3eda3"/>
                </a:gs>
                <a:gs pos="100000">
                  <a:srgbClr val="e6fae6"/>
                </a:gs>
              </a:gsLst>
              <a:lin ang="16200000"/>
            </a:gradFill>
            <a:ln w="9360">
              <a:solidFill>
                <a:srgbClr val="00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er 25"/>
          <p:cNvGrpSpPr/>
          <p:nvPr/>
        </p:nvGrpSpPr>
        <p:grpSpPr>
          <a:xfrm>
            <a:off x="5506920" y="3749760"/>
            <a:ext cx="3143520" cy="1465560"/>
            <a:chOff x="5506920" y="3749760"/>
            <a:chExt cx="3143520" cy="1465560"/>
          </a:xfrm>
        </p:grpSpPr>
        <p:sp>
          <p:nvSpPr>
            <p:cNvPr id="136" name="ZoneTexte 7"/>
            <p:cNvSpPr/>
            <p:nvPr/>
          </p:nvSpPr>
          <p:spPr>
            <a:xfrm>
              <a:off x="5506920" y="4816440"/>
              <a:ext cx="31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 format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lèche vers le bas 15"/>
            <p:cNvSpPr/>
            <p:nvPr/>
          </p:nvSpPr>
          <p:spPr>
            <a:xfrm>
              <a:off x="5506920" y="3749760"/>
              <a:ext cx="380880" cy="1066680"/>
            </a:xfrm>
            <a:prstGeom prst="downArrow">
              <a:avLst>
                <a:gd name="adj1" fmla="val 50000"/>
                <a:gd name="adj2" fmla="val 50021"/>
              </a:avLst>
            </a:prstGeom>
            <a:gradFill rotWithShape="0">
              <a:gsLst>
                <a:gs pos="0">
                  <a:srgbClr val="a3eda3"/>
                </a:gs>
                <a:gs pos="100000">
                  <a:srgbClr val="e6fae6"/>
                </a:gs>
              </a:gsLst>
              <a:lin ang="16200000"/>
            </a:gradFill>
            <a:ln w="9360">
              <a:solidFill>
                <a:srgbClr val="00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er 24"/>
          <p:cNvGrpSpPr/>
          <p:nvPr/>
        </p:nvGrpSpPr>
        <p:grpSpPr>
          <a:xfrm>
            <a:off x="4059360" y="3749760"/>
            <a:ext cx="4591080" cy="1865880"/>
            <a:chOff x="4059360" y="3749760"/>
            <a:chExt cx="4591080" cy="1865880"/>
          </a:xfrm>
        </p:grpSpPr>
        <p:sp>
          <p:nvSpPr>
            <p:cNvPr id="139" name="ZoneTexte 6"/>
            <p:cNvSpPr/>
            <p:nvPr/>
          </p:nvSpPr>
          <p:spPr>
            <a:xfrm>
              <a:off x="4059360" y="5216760"/>
              <a:ext cx="45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cise format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lèche vers le bas 16"/>
            <p:cNvSpPr/>
            <p:nvPr/>
          </p:nvSpPr>
          <p:spPr>
            <a:xfrm>
              <a:off x="4059360" y="3749760"/>
              <a:ext cx="380880" cy="1467000"/>
            </a:xfrm>
            <a:prstGeom prst="downArrow">
              <a:avLst>
                <a:gd name="adj1" fmla="val 50000"/>
                <a:gd name="adj2" fmla="val 50035"/>
              </a:avLst>
            </a:prstGeom>
            <a:gradFill rotWithShape="0">
              <a:gsLst>
                <a:gs pos="0">
                  <a:srgbClr val="a3eda3"/>
                </a:gs>
                <a:gs pos="100000">
                  <a:srgbClr val="e6fae6"/>
                </a:gs>
              </a:gsLst>
              <a:lin ang="16200000"/>
            </a:gradFill>
            <a:ln w="9360">
              <a:solidFill>
                <a:srgbClr val="00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er 23"/>
          <p:cNvGrpSpPr/>
          <p:nvPr/>
        </p:nvGrpSpPr>
        <p:grpSpPr>
          <a:xfrm>
            <a:off x="2611440" y="3749760"/>
            <a:ext cx="6039000" cy="2265840"/>
            <a:chOff x="2611440" y="3749760"/>
            <a:chExt cx="6039000" cy="2265840"/>
          </a:xfrm>
        </p:grpSpPr>
        <p:sp>
          <p:nvSpPr>
            <p:cNvPr id="142" name="ZoneTexte 5"/>
            <p:cNvSpPr/>
            <p:nvPr/>
          </p:nvSpPr>
          <p:spPr>
            <a:xfrm>
              <a:off x="2611440" y="5616720"/>
              <a:ext cx="603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mat selected based on optimization fla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lèche vers le bas 17"/>
            <p:cNvSpPr/>
            <p:nvPr/>
          </p:nvSpPr>
          <p:spPr>
            <a:xfrm>
              <a:off x="2611440" y="3749760"/>
              <a:ext cx="380880" cy="1866960"/>
            </a:xfrm>
            <a:prstGeom prst="downArrow">
              <a:avLst>
                <a:gd name="adj1" fmla="val 50000"/>
                <a:gd name="adj2" fmla="val 50015"/>
              </a:avLst>
            </a:prstGeom>
            <a:gradFill rotWithShape="0">
              <a:gsLst>
                <a:gs pos="0">
                  <a:srgbClr val="a3eda3"/>
                </a:gs>
                <a:gs pos="100000">
                  <a:srgbClr val="e6fae6"/>
                </a:gs>
              </a:gsLst>
              <a:lin ang="16200000"/>
            </a:gradFill>
            <a:ln w="9360">
              <a:solidFill>
                <a:srgbClr val="00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er 22"/>
          <p:cNvGrpSpPr/>
          <p:nvPr/>
        </p:nvGrpSpPr>
        <p:grpSpPr>
          <a:xfrm>
            <a:off x="1150920" y="3749760"/>
            <a:ext cx="7499520" cy="2665800"/>
            <a:chOff x="1150920" y="3749760"/>
            <a:chExt cx="7499520" cy="2665800"/>
          </a:xfrm>
        </p:grpSpPr>
        <p:sp>
          <p:nvSpPr>
            <p:cNvPr id="145" name="ZoneTexte 4"/>
            <p:cNvSpPr/>
            <p:nvPr/>
          </p:nvSpPr>
          <p:spPr>
            <a:xfrm>
              <a:off x="1150920" y="6016680"/>
              <a:ext cx="74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mat selected based on default sett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lèche vers le bas 18"/>
            <p:cNvSpPr/>
            <p:nvPr/>
          </p:nvSpPr>
          <p:spPr>
            <a:xfrm>
              <a:off x="1150920" y="3749760"/>
              <a:ext cx="380880" cy="2266920"/>
            </a:xfrm>
            <a:prstGeom prst="downArrow">
              <a:avLst>
                <a:gd name="adj1" fmla="val 57093"/>
                <a:gd name="adj2" fmla="val 50012"/>
              </a:avLst>
            </a:prstGeom>
            <a:gradFill rotWithShape="0">
              <a:gsLst>
                <a:gs pos="0">
                  <a:srgbClr val="a3eda3"/>
                </a:gs>
                <a:gs pos="100000">
                  <a:srgbClr val="e6fae6"/>
                </a:gs>
              </a:gsLst>
              <a:lin ang="16200000"/>
            </a:gradFill>
            <a:ln w="9360">
              <a:solidFill>
                <a:srgbClr val="0099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Disque magnétique 20"/>
          <p:cNvSpPr/>
          <p:nvPr/>
        </p:nvSpPr>
        <p:spPr>
          <a:xfrm>
            <a:off x="3376440" y="1768320"/>
            <a:ext cx="3048120" cy="762120"/>
          </a:xfrm>
          <a:prstGeom prst="flowChartMagneticDisk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Generato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 the intentionality of system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using domain specific no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e an efficient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trivial mapping into implementation 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the library scaling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y built as concrete component double in size for each new added fe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9:11:02Z</dcterms:created>
  <dc:creator>Giuseppe Attardi</dc:creator>
  <dc:description/>
  <dc:language>en-US</dc:language>
  <cp:lastModifiedBy>Giuseppe Attardi</cp:lastModifiedBy>
  <dcterms:modified xsi:type="dcterms:W3CDTF">2011-01-11T09:54:52Z</dcterms:modified>
  <cp:revision>88</cp:revision>
  <dc:subject/>
  <dc:title>Generic Programming in C++</dc:title>
</cp:coreProperties>
</file>